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19B-3EFB-4BE7-9984-B66089B1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085-1806-42D4-A441-D250C8FA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50A-BD74-4B4E-B81F-6D962166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BDE-8082-4BC6-8598-4F78C9E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6CE-8030-44A1-8367-CDA80401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8170-F86F-4D47-8523-BC9027C2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5F26-C425-4E75-96C6-9381BFE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836F-DAA6-486B-BEEC-5C52C9E1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6036-F90E-4789-A77F-4B6B277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46E-317C-49E5-8B14-9E5223E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2860-7BD2-40DB-81DA-C5CA968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3DB-E5A2-4DA9-B455-6BE0334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C2E9-60CA-476A-BF52-521E41A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8407-977A-4397-9C8B-38E5832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9C26-5F62-42C4-AE70-0B3BEF2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D72-483D-4632-B0BA-9E423684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A50-86A1-47C2-8D0C-7F05C902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022-282D-439F-A7DD-BAE0C18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E70-CB00-44B5-BA0D-ED907481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81C-C601-40B0-9440-8AC6FD05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DEA-8EE2-4C61-9709-5323F1D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EFC-B594-456E-925D-643BC9D1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D00-36CC-45C2-AB7F-0C44F42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7E3-4A8F-4FF1-AF05-54FEF2FC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F4C-661E-445A-9B78-7D3CF117B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B43-B46A-45C0-8C51-2737F045C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еинфективни грануломи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Б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еп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хен рубер план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ранулома анул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2 и 3 стадијум сифили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ма специфичне терап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а спонтана резолу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ртико терапија (општа, локална, ИЛ), М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,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хидроксихлорокин, циклоспорин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нично, бенигно обољ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јасна етиологија (ујед инсекта, траума, вируси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деца и адолесцен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дорзуму шака, стопал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, лактови, колена, тр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тни, чврсти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чворић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оји образују ануларне или полицикличне фигу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солитарне или генерализов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око огњишта непотпуне некрозе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г: клиничка слика, хист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лихен, саркоидоза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robios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poidica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, тине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 терапија (код генерализованих облика): дапсон, ретиноиди, ПУ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а терапија: КС масти (под оклузијом), интралезиони КС, крио 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д дијабетич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едилекциона места: претибијално, симетрич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ворић или макула, ружичасто-жуте боје, или мрке боје, који се спајају у овалне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ентар: склератрофичан, жућкаст са телангиектазиј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вица: уздигнута, чврста, еритематозна или ливид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: спонтана резолуција (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у дубљем дерму, са хијалином некрозом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гранулома ануларе, саркоидоза, локализована склеродер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рапија: КС локално или И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системско обољење коже, слузокожа и унутрашњих ор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тиологија је непозна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ркоидни антиген 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верзибилни имунолошки поремећаји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фицит ћелијског имун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уморални имунитет је “повишен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лцерозне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сновна ефлоресценција: улцер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арактеристике улк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из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елич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вице: подривене или у равни околне кож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ло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о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ољења артерија (артериј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Хронична венска инсуфицијенција (вен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матолошк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а: ТБЦ, лепра, дубоке микозе, ек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оплаз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офичке улцерације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um perforans ped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скулитис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н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мпликација варикозитета и Х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арикозит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2600" y="415116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172200" y="4114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3257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Хронична венска инсуфицијенциј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752480"/>
          <a:ext cx="8268840" cy="5047920"/>
        </p:xfrm>
        <a:graphic>
          <a:graphicData uri="http://schemas.openxmlformats.org/drawingml/2006/table">
            <a:tbl>
              <a:tblPr/>
              <a:tblGrid>
                <a:gridCol w="4134240"/>
                <a:gridCol w="41346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фибринском    наслаг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зимско чишћење (фиброл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руршки дебрид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ексудациј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 (физиолошки, хиперманган)+ одм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инфиц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Б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чистог д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дроколоидне компре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ластери по Гиљеу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фт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ртериј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атеросклероза, оклузија артерија, емболија, васкуларне колагене болести, васкулитиси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mboanginitis obliter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стариј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 ж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БОЛ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udicatio intermite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ови у ми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јачавају се када пацијент леж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ацијенти преседе целу но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ЖА: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леда, хладна, без длака, дистрофични нок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 палпирају се артеријални пулсе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изација: стопало, бочне стране потколенице или предео малеолу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убине 3-4цм, прекрив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мрком есхаром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дно без гранул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ма варикозит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ангрена прстију, стопала и/или ног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се јавља између 40-50 г.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жа: специфичне и неспецифичне проме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 лечење: Пентоксифи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 лечење: тоалета 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руршко лечење: ампут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дијабетесна неуропатија и неуропатије других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изација: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лин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гранич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хиперкератотична плоч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у центру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ЕЗБОЛНА, не епителизу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: основно обољењ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к: осетљивост артерија на хладноћ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шакама, ређе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Три етапе: 1. кожа бледа и хлад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2. Цијанотична кож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3. Реактивна хипер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 хроничан, може довести до трофичк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лиморфне- папуле, нодуси, инфилтровани плаков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ожиљ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рактерист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лупоидан из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негативан феномен сон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Не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703600"/>
          </a:xfrm>
          <a:prstGeom prst="rect">
            <a:avLst/>
          </a:prstGeom>
          <a:ln w="0">
            <a:noFill/>
          </a:ln>
        </p:spPr>
      </p:pic>
      <p:pic>
        <p:nvPicPr>
          <p:cNvPr id="109" name="rg_hi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rg_hi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зокоже (нодули и плакови): коњуктиве, носна, тонзиле и д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утрашњи органи: плућа (80-100%), кости (5%), очи, паротидне жлезде, лакрималне и саливарне жлезде (Микулицев синдром), увећане лимфне жлезде, ЦНС и сви други унутрашњи орг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2600" y="2017800"/>
          <a:ext cx="7772400" cy="4410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ућ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в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дијастиналне лимфне жлез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г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ренхиматозне про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пуле и ноду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сто 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тпуна регрес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ћ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броза плу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еверзибилне про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оли гранулом” без казеозне нек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уберкилин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јмов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лцемија,калцур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муноелектрофореза проте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пл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ш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столог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езулт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зи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ларна аденопатија, паренхиматозне проме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оли грану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Nebojša Krstić</cp:lastModifiedBy>
  <dcterms:modified xsi:type="dcterms:W3CDTF">2013-09-05T09:36:25Z</dcterms:modified>
  <cp:revision>26</cp:revision>
  <dc:subject/>
  <dc:title>Неинфективни грануломи коже</dc:title>
</cp:coreProperties>
</file>